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7.png" ContentType="image/png"/>
  <Override PartName="/ppt/media/image16.png" ContentType="image/png"/>
  <Override PartName="/ppt/media/image14.wmf" ContentType="image/x-wmf"/>
  <Override PartName="/ppt/media/image5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DB47-5E09-402C-9C34-86AEBF084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8377-64A0-4407-8C75-9D3408F54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6515-0CCC-48FD-8D92-AEA02CD68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A506-7785-41D6-B1F5-D3591A020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F847-B231-462A-A041-DDD62716A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7E5E-301F-4DA1-A104-F1517E0D2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182F-6AA4-465B-94D5-160899915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D6E9-3452-4A68-A786-D85CC2E37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E22C-0765-49F3-9E9F-C06CADCB5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09FE-CEDC-4773-AB3C-D626186B6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EE66-8575-4730-8AC0-45AEF32DA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129B-5939-4516-9449-9A20E534F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7B44-51BF-40D0-A217-706CD6ED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DAB0-FFEF-4A4C-B87A-EDA80FED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DB2-7995-4F23-B2AF-68D8610F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0F2-D0E8-4143-84D0-FDA83F01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0B71-2256-4A14-9DFF-4613DA43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E06E-DF46-4720-B7D7-11FB5047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2E9E-EE65-4922-95E8-42114134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913A-0C6F-42A7-9924-B1F6D12E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9C9F-836B-429A-9B97-BE03FDE2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5F6-6A6B-44F3-8F5A-83BACA3F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489C-C923-462F-AA8E-32140513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DFFE-0500-430E-A02D-CE2B466F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1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763640" y="6244920"/>
            <a:ext cx="216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40360" y="6244920"/>
            <a:ext cx="324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96000" y="6244920"/>
            <a:ext cx="1090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C0CC-1B59-4805-A30C-B2072FE24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9320" y="2209680"/>
            <a:ext cx="6629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mage Effec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42667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01 Investigate graphic image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an02542_"/>
          <p:cNvPicPr/>
          <p:nvPr/>
        </p:nvPicPr>
        <p:blipFill>
          <a:blip r:embed="rId1"/>
          <a:stretch/>
        </p:blipFill>
        <p:spPr>
          <a:xfrm>
            <a:off x="3276720" y="3581280"/>
            <a:ext cx="1447560" cy="139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 rot="19552800">
            <a:off x="5638680" y="3276360"/>
            <a:ext cx="1849680" cy="18572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t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voting an object around its center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the background color of a raster image to make it “see-throug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image to blend in with its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uma"/>
          <p:cNvPicPr/>
          <p:nvPr/>
        </p:nvPicPr>
        <p:blipFill>
          <a:blip r:embed="rId1"/>
          <a:stretch/>
        </p:blipFill>
        <p:spPr>
          <a:xfrm>
            <a:off x="5410080" y="4572000"/>
            <a:ext cx="3200400" cy="1676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puma"/>
          <p:cNvPicPr/>
          <p:nvPr/>
        </p:nvPicPr>
        <p:blipFill>
          <a:blip r:embed="rId2"/>
          <a:stretch/>
        </p:blipFill>
        <p:spPr>
          <a:xfrm>
            <a:off x="1600200" y="4572000"/>
            <a:ext cx="352440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ing part of an image and using it to replace unwanted parts of the 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blemishes on a model’s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ush up text on a scanned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2209680" y="5029200"/>
            <a:ext cx="6324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cloning%20pixels"/>
          <p:cNvPicPr/>
          <p:nvPr/>
        </p:nvPicPr>
        <p:blipFill>
          <a:blip r:embed="rId1"/>
          <a:stretch/>
        </p:blipFill>
        <p:spPr>
          <a:xfrm>
            <a:off x="2971800" y="4648320"/>
            <a:ext cx="38862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ting out part of an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image retains same fi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 image can be saved as new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wb"/>
          <p:cNvPicPr/>
          <p:nvPr/>
        </p:nvPicPr>
        <p:blipFill>
          <a:blip r:embed="rId1"/>
          <a:stretch/>
        </p:blipFill>
        <p:spPr>
          <a:xfrm>
            <a:off x="4038480" y="4114800"/>
            <a:ext cx="3429000" cy="190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ropped"/>
          <p:cNvPicPr/>
          <p:nvPr/>
        </p:nvPicPr>
        <p:blipFill>
          <a:blip r:embed="rId2"/>
          <a:stretch/>
        </p:blipFill>
        <p:spPr>
          <a:xfrm>
            <a:off x="7696080" y="3657600"/>
            <a:ext cx="990720" cy="977760"/>
          </a:xfrm>
          <a:prstGeom prst="rect">
            <a:avLst/>
          </a:prstGeom>
          <a:ln w="0">
            <a:noFill/>
          </a:ln>
        </p:spPr>
      </p:pic>
      <p:sp>
        <p:nvSpPr>
          <p:cNvPr id="59" name="Line 12"/>
          <p:cNvSpPr/>
          <p:nvPr/>
        </p:nvSpPr>
        <p:spPr>
          <a:xfrm flipV="1">
            <a:off x="5029200" y="4038120"/>
            <a:ext cx="2590920" cy="129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l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apply special effects to an image that would be too difficult to create manu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eaving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ef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449604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ter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7"/>
          <p:cNvGrpSpPr/>
          <p:nvPr/>
        </p:nvGrpSpPr>
        <p:grpSpPr>
          <a:xfrm>
            <a:off x="304920" y="304920"/>
            <a:ext cx="8458200" cy="6000480"/>
            <a:chOff x="304920" y="304920"/>
            <a:chExt cx="8458200" cy="6000480"/>
          </a:xfrm>
        </p:grpSpPr>
        <p:pic>
          <p:nvPicPr>
            <p:cNvPr id="64" name="Picture 3" descr="lightingeffect"/>
            <p:cNvPicPr/>
            <p:nvPr/>
          </p:nvPicPr>
          <p:blipFill>
            <a:blip r:embed="rId1"/>
            <a:stretch/>
          </p:blipFill>
          <p:spPr>
            <a:xfrm>
              <a:off x="304920" y="1600200"/>
              <a:ext cx="2971800" cy="22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4" descr="patchwork"/>
            <p:cNvPicPr/>
            <p:nvPr/>
          </p:nvPicPr>
          <p:blipFill>
            <a:blip r:embed="rId2"/>
            <a:stretch/>
          </p:blipFill>
          <p:spPr>
            <a:xfrm>
              <a:off x="5257800" y="2438280"/>
              <a:ext cx="3505320" cy="26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warped"/>
            <p:cNvPicPr/>
            <p:nvPr/>
          </p:nvPicPr>
          <p:blipFill>
            <a:blip r:embed="rId3"/>
            <a:stretch/>
          </p:blipFill>
          <p:spPr>
            <a:xfrm>
              <a:off x="1600200" y="3733920"/>
              <a:ext cx="3429000" cy="25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6" descr="cougar"/>
            <p:cNvPicPr/>
            <p:nvPr/>
          </p:nvPicPr>
          <p:blipFill>
            <a:blip r:embed="rId4"/>
            <a:stretch/>
          </p:blipFill>
          <p:spPr>
            <a:xfrm>
              <a:off x="6096240" y="304920"/>
              <a:ext cx="259056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7"/>
            <p:cNvSpPr/>
            <p:nvPr/>
          </p:nvSpPr>
          <p:spPr>
            <a:xfrm>
              <a:off x="4953240" y="380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3200400" y="1981080"/>
              <a:ext cx="129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pecial ligh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533520" y="457200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arped eff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2"/>
            <p:cNvSpPr/>
            <p:nvPr/>
          </p:nvSpPr>
          <p:spPr>
            <a:xfrm>
              <a:off x="6096240" y="51055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tch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ing an object/image with a smooth transition from one color to an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k blue, gradually becoming wh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fading to o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gradient"/>
          <p:cNvPicPr/>
          <p:nvPr/>
        </p:nvPicPr>
        <p:blipFill>
          <a:blip r:embed="rId1"/>
          <a:srcRect l="9589" t="0" r="0" b="9589"/>
          <a:stretch/>
        </p:blipFill>
        <p:spPr>
          <a:xfrm>
            <a:off x="6629400" y="4572000"/>
            <a:ext cx="1523880" cy="15238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ing multiple pictures or objects together into one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can be turned on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can be colored, layered, and resized individu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14400" y="22096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jcndraw"/>
          <p:cNvPicPr/>
          <p:nvPr/>
        </p:nvPicPr>
        <p:blipFill>
          <a:blip r:embed="rId1"/>
          <a:stretch/>
        </p:blipFill>
        <p:spPr>
          <a:xfrm>
            <a:off x="7218360" y="3809880"/>
            <a:ext cx="15908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733920" cy="2897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yers on . . . Layers o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752480" y="3276720"/>
            <a:ext cx="3751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tterns and Tex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63280" y="160020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s – raster graphics used to fill an object or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res – used to create filters and backg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4346" r="12869" b="23185"/>
          <a:stretch/>
        </p:blipFill>
        <p:spPr>
          <a:xfrm>
            <a:off x="6095880" y="1600200"/>
            <a:ext cx="2590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9:02:01Z</dcterms:created>
  <dc:creator>Bladen Crockett</dc:creator>
  <dc:description/>
  <dc:language>en-US</dc:language>
  <cp:lastModifiedBy>ycsadmin</cp:lastModifiedBy>
  <dcterms:modified xsi:type="dcterms:W3CDTF">2011-06-23T16:11:20Z</dcterms:modified>
  <cp:revision>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11831033</vt:lpwstr>
  </property>
</Properties>
</file>